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13074"/>
        <c:axId val="39916751"/>
      </c:barChart>
      <c:catAx>
        <c:axId val="31513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6751"/>
        <c:crosses val="autoZero"/>
        <c:auto val="1"/>
        <c:lblAlgn val="ctr"/>
        <c:lblOffset val="100"/>
        <c:noMultiLvlLbl val="0"/>
      </c:catAx>
      <c:valAx>
        <c:axId val="39916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3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467-8CF1-41E7-9855-00E802C2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8DE-AC5F-4173-91CE-1F43D47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031-37FC-4FA0-9DEF-51378B58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B1-7D2D-4639-866F-850085DA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CA1-72FE-4EE7-9390-9194BE5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3A-D99B-4A79-AAA9-4AFFA6EE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53F-3A12-4EBE-94E9-632EDE5A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9ED-6BDC-416D-8EA2-5355445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AD4-9DD1-43D7-8149-0930FC18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B84-0B85-44A9-9B6D-AC86452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9A2-B9A3-4060-9344-FEAAA3DE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C79-6532-4B4C-92F6-F1016F9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EB520-F34B-4CD0-AAA6-EAE5C351F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