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45606"/>
        <c:axId val="84083720"/>
      </c:barChart>
      <c:catAx>
        <c:axId val="65545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83720"/>
        <c:crosses val="autoZero"/>
        <c:auto val="1"/>
        <c:lblAlgn val="ctr"/>
        <c:lblOffset val="100"/>
        <c:noMultiLvlLbl val="0"/>
      </c:catAx>
      <c:valAx>
        <c:axId val="84083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45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89D-961F-4EA2-BB7D-D426B53D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6CC-9864-47FC-A19A-09292387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9B9A-2954-45BD-A591-62090904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30B9-7AC0-4A7A-B2CB-F1CB8F78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9C8-BAC0-406D-8220-BBFC06FC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F405-CE40-4ADD-8BAA-2C84D2F1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392-D5BD-41E4-9D0B-73BDFC42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8965-4EC7-4028-8213-399E757D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A5E-9BED-4B26-8509-360D52A6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F62-C4F7-4F29-B443-9A16DDA4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290-AD24-4CAA-8D15-3C26DAA8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4173-94F9-45C9-BC7B-5D368335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C44DE-2594-452C-A891-B3EAF1EA5D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