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25637"/>
        <c:axId val="97847153"/>
      </c:barChart>
      <c:catAx>
        <c:axId val="90425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47153"/>
        <c:crosses val="autoZero"/>
        <c:auto val="1"/>
        <c:lblAlgn val="ctr"/>
        <c:lblOffset val="100"/>
        <c:noMultiLvlLbl val="0"/>
      </c:catAx>
      <c:valAx>
        <c:axId val="978471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25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731-E12B-41C6-B9BF-A016D31D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3AD-5B8F-4F91-A5B9-CF0C9E91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9C4-7F28-4645-9DA6-29839E8E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557-9883-48FF-BADB-D990476A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5B8-A87A-4796-B2CC-601AD3A7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7C6-1520-432E-8852-7AD577C3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C68-9227-4BBC-A547-21A8BEF0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7EE-139A-4F80-A21C-4A326858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0E7-922D-421F-A48E-DA422778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138-0703-4D9F-B783-211360FC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618-BEAE-4201-A1B8-99A31E22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C78-3B75-459E-BD3A-E02F4D88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F3528-AC37-4CE1-B18F-FD9FF287BD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