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44976"/>
        <c:axId val="68404059"/>
      </c:barChart>
      <c:catAx>
        <c:axId val="927449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04059"/>
        <c:crosses val="autoZero"/>
        <c:auto val="1"/>
        <c:lblAlgn val="ctr"/>
        <c:lblOffset val="100"/>
        <c:noMultiLvlLbl val="0"/>
      </c:catAx>
      <c:valAx>
        <c:axId val="68404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449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163A-FDE6-4015-AA61-BBD284D8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6DE2-4C77-4B05-87AD-D4E01FDD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E93-901B-45A1-ABD3-ED9080D2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38F-CBF2-405D-90F6-F2B91B87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1815-C38C-4F03-A4A9-775DBF03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FAAE-4BAE-40E1-9CC3-DBF09486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B655-59B7-43ED-9D92-0B9D5D61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622-DB06-458B-BF82-FFAE4E74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56C0-7F45-4210-A37D-7A4DF067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BBC-6AAE-49AC-AFBE-0FD17567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01B-8495-4F25-9323-EB0B4C4A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5C4-FE03-477D-96CE-CD62278C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36857-E768-4510-B4A1-8C6497FF5F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