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89899"/>
        <c:axId val="83917841"/>
      </c:barChart>
      <c:catAx>
        <c:axId val="53289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7841"/>
        <c:crosses val="autoZero"/>
        <c:auto val="1"/>
        <c:lblAlgn val="ctr"/>
        <c:lblOffset val="100"/>
        <c:noMultiLvlLbl val="0"/>
      </c:catAx>
      <c:valAx>
        <c:axId val="83917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9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4BD-F30E-4D79-B5F6-64C62190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779-9E78-4AC3-91F1-03DB19C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444-9448-4E44-90EC-CC4425EE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FA0-0CE8-46EB-94F9-172A98DB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49A-F760-477C-B5D8-5B58CA3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440-B02B-495D-8A39-EC65F93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80A-E770-4A1B-A480-F449C68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262-0EA6-4ABD-A773-5CE2A2D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227-7D26-4656-A9DF-EB5AA01D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1E9-7B29-4C94-8E03-AE7E5C4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E65-7B8A-4DBD-B7DC-8278330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D52-7930-420D-998C-288709D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CC238-5627-4F07-AA6D-9FDCF4A53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