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549867"/>
        <c:axId val="92593952"/>
      </c:barChart>
      <c:catAx>
        <c:axId val="685498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93952"/>
        <c:crosses val="autoZero"/>
        <c:auto val="1"/>
        <c:lblAlgn val="ctr"/>
        <c:lblOffset val="100"/>
        <c:noMultiLvlLbl val="0"/>
      </c:catAx>
      <c:valAx>
        <c:axId val="925939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498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15B8-3BBA-4C81-994C-B96647230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56F1-1FFF-4B4E-B275-59C75677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6FFB-5614-4523-BB6C-F4BA3190C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F2FB-0A54-4A8B-8370-93A13BC13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E325-13AC-4293-A8B3-3BEC828A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023C-293C-4655-80DB-3C0B8834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9270-B7F4-4FB4-8B4D-A0A7EF55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04D8-294A-4066-88C2-F9A8FB37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7AFE-AAFA-4A42-A038-20F0E294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F9E1-92BF-4776-BE94-38D07C1C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E6B9-096B-4EB3-B7D2-526D9BFE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C93A-5F88-4EC2-9370-13122EDD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7C635-DD52-48CF-AE56-31CCC1CBDB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