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59780"/>
        <c:axId val="53910791"/>
      </c:barChart>
      <c:catAx>
        <c:axId val="13597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910791"/>
        <c:crosses val="autoZero"/>
        <c:auto val="1"/>
        <c:lblAlgn val="ctr"/>
        <c:lblOffset val="100"/>
        <c:noMultiLvlLbl val="0"/>
      </c:catAx>
      <c:valAx>
        <c:axId val="539107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597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477B-C19F-4E64-A1F1-A276FC63D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1428-D037-4BFF-90BF-D644A511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4250-2A01-4496-94A2-D865773A3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DA71-FEEE-40F2-9CB8-9D36E62A5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E1C5-C2E2-4252-922D-028B5A83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82B6-95F6-4B81-B82A-6BB5A23A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874E-F060-4A5F-8842-7F0C9F45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339B-BD26-4AA5-950A-EF498074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DD7A-4032-48D6-A5E9-6F033216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5CB1-2418-4015-9816-0AB65366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BD1A-057E-456C-822C-BB40E5B2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9E20-9ADD-4B8B-BDFC-3ADD1094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5EB0B8-AE98-49EB-B2DF-C67DB8BC4A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