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826564"/>
        <c:axId val="77523628"/>
      </c:barChart>
      <c:catAx>
        <c:axId val="828265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23628"/>
        <c:crosses val="autoZero"/>
        <c:auto val="1"/>
        <c:lblAlgn val="ctr"/>
        <c:lblOffset val="100"/>
        <c:noMultiLvlLbl val="0"/>
      </c:catAx>
      <c:valAx>
        <c:axId val="775236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265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B1AA-5604-4262-9B77-8A764C871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E317-C82C-4372-9529-3973B7E9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D9D4-7499-4923-9695-CA496E49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404B-57D6-4C04-ACA0-23EE3BCB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8C5B-10DB-4D8F-A3DC-7025FEC8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971E-42DC-4AB0-8D79-8A27AEB4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E880-8516-41C1-91CE-DF8C5A6E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55A0-B9F1-4283-AE88-D92487A5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F4A4-9E7B-4C0B-9717-9564B202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80DD-C38D-4FE2-BB4D-5F827B4B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929E-0D1F-420A-B9D3-FEC5AC97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358B-98EA-4F40-868A-AEB07484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770B0-7471-4825-9BA5-E52A74D868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