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46010"/>
        <c:axId val="78830600"/>
      </c:barChart>
      <c:catAx>
        <c:axId val="64146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30600"/>
        <c:crosses val="autoZero"/>
        <c:auto val="1"/>
        <c:lblAlgn val="ctr"/>
        <c:lblOffset val="100"/>
        <c:noMultiLvlLbl val="0"/>
      </c:catAx>
      <c:valAx>
        <c:axId val="78830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46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1F7-5091-4250-892C-1A71C222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DEC-FD75-4C69-A419-17213BEA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46A-1C6E-4965-BDB7-CD5D302D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583-D0FD-4182-B9F2-E3E680AD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0D9-D2CB-4CD0-A71E-207AD552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41B-CBC9-414D-8BAC-9C3D2E90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232-8F64-4841-852B-EE060788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205B-A615-415C-B23E-EEECD82A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48D-16DB-4690-900F-83E6EEAD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DB3-61DA-4061-9AA8-A04F6B4E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08E-F190-489A-8363-C999B107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79E-C6B1-4011-BE76-73AA25E1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9758A-DE4C-43E1-8F0A-8D7A973D17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