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273945"/>
        <c:axId val="99089295"/>
      </c:barChart>
      <c:catAx>
        <c:axId val="662739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89295"/>
        <c:crosses val="autoZero"/>
        <c:auto val="1"/>
        <c:lblAlgn val="ctr"/>
        <c:lblOffset val="100"/>
        <c:noMultiLvlLbl val="0"/>
      </c:catAx>
      <c:valAx>
        <c:axId val="990892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739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AF93-8CB6-4229-81CA-D9912B7B4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D2B8-B215-41BF-83BD-112C80CA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4FC1-BB7B-4C78-9EF4-25CB5F722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F0E7-051D-4676-B1D9-E04C10FD3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469D-AE2F-4695-8CCA-94E85277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9A6E-68C0-41B6-9EF5-026D3291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63D4-0128-4B53-B8D6-ACB7064D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3523-7B1D-4E52-89A0-B6B5676A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8272-DA8D-4C1C-B31A-41BB56F9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D9EC-322C-465D-B065-2BDAFFAB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98DA-5459-4F53-A178-14157FD7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E096-4645-47B7-B6A2-943FD5AF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B0ADB-EEBC-4B17-9026-4A4AC3E50A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