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75048"/>
        <c:axId val="7976673"/>
      </c:barChart>
      <c:catAx>
        <c:axId val="68975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6673"/>
        <c:crosses val="autoZero"/>
        <c:auto val="1"/>
        <c:lblAlgn val="ctr"/>
        <c:lblOffset val="100"/>
        <c:noMultiLvlLbl val="0"/>
      </c:catAx>
      <c:valAx>
        <c:axId val="7976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75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B76-C621-4A67-A7F5-FD772AB6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FE7-0C77-445A-A1C5-D3408B53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A3B-F65E-4B29-8118-817911DD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282-FE36-46A1-815F-51A45075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EB1-876B-4B07-9492-85A7CA57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8EB-29BC-4AA0-8596-FA465451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BB3-028D-4D73-AF2A-0D392D26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E30-E677-43F5-A3FA-8C6273A0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77B-F3D9-465D-924F-4F642D9C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479-A8E7-4920-A1A9-E9E0D5C0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B38-4A75-4D1E-BCEF-72B7B12E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69C-37CC-4044-B8D3-5EB3C9F2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76787-77DD-4F69-8EEC-002186E005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