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03046"/>
        <c:axId val="31540859"/>
      </c:barChart>
      <c:catAx>
        <c:axId val="84303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40859"/>
        <c:crosses val="autoZero"/>
        <c:auto val="1"/>
        <c:lblAlgn val="ctr"/>
        <c:lblOffset val="100"/>
        <c:noMultiLvlLbl val="0"/>
      </c:catAx>
      <c:valAx>
        <c:axId val="31540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3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889-8D66-4314-BCA5-1A3C708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E0D-F89A-4C74-92F5-308FFC1A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1F0-8E54-403E-B0DA-212D5A64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A0E-B344-470D-968A-1A6A9E53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BD7-58F9-44B5-A866-1B7198A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D8C-1FB6-48D5-AD68-33222C1D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F01-0E18-4343-8E83-759518A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408-83BE-48B9-AA77-333A59D8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F49-9632-4E61-B9EF-F99C1274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6D2-1BC2-4236-ADC4-BD49C06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715-627C-40D4-82F1-751D556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8BE-6454-4C96-9390-57FD76A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9B05-838C-4603-BBDE-B17D3B0FE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