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065028"/>
        <c:axId val="88639390"/>
      </c:barChart>
      <c:catAx>
        <c:axId val="350650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39390"/>
        <c:crosses val="autoZero"/>
        <c:auto val="1"/>
        <c:lblAlgn val="ctr"/>
        <c:lblOffset val="100"/>
        <c:noMultiLvlLbl val="0"/>
      </c:catAx>
      <c:valAx>
        <c:axId val="886393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650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BF1A-76E6-414F-92CA-87EBA67A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912B-F195-4642-9DD1-FDD8BA29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56FB-331C-4219-AAC0-CF6E3218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7E12-5396-48FA-9C25-655807D6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A767-880E-40F8-8D95-3C6C98E3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99FE-9F5C-487B-BE90-1AFE56DD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8B78-718E-41A1-B0EC-6EC483AE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2925-D202-4C61-A816-148866C7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8B19-ACD6-4609-9931-7E879C40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0A35-F4E3-4AC4-9635-7164E6C0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FE9F-4FB9-4116-BB95-30DF1C21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5CFC-B517-41B9-A848-A207D45F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2D039-4300-4158-812F-2AC6232075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