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232322"/>
        <c:axId val="16116388"/>
      </c:barChart>
      <c:catAx>
        <c:axId val="702323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16388"/>
        <c:crosses val="autoZero"/>
        <c:auto val="1"/>
        <c:lblAlgn val="ctr"/>
        <c:lblOffset val="100"/>
        <c:noMultiLvlLbl val="0"/>
      </c:catAx>
      <c:valAx>
        <c:axId val="16116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323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884B-96CB-42DB-A655-3D336E75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C69B-7B4A-4BCA-9558-B7DBCED1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F59B-4D30-47C7-9E19-473B2C44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D641-89E3-4597-919F-02BBF515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5944-5876-4B48-B916-69589A05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D199-8BEC-499E-95F1-8FD5B35B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988A-691A-4328-AD8A-5E9187AC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0387-5221-4339-AE33-0E8CD27D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A3E6-6CFE-47FB-A87D-BBABAF97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818C-4D8D-4592-8898-60897389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F3BA-437F-4A1A-A72A-C4AEAEAF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6A14-3A94-4B9C-8641-765BDFEE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F1E75-1A95-48FF-B4F4-337908C531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