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0085"/>
        <c:axId val="11889191"/>
      </c:barChart>
      <c:catAx>
        <c:axId val="7010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89191"/>
        <c:crosses val="autoZero"/>
        <c:auto val="1"/>
        <c:lblAlgn val="ctr"/>
        <c:lblOffset val="100"/>
        <c:noMultiLvlLbl val="0"/>
      </c:catAx>
      <c:valAx>
        <c:axId val="11889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0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ACE-76BE-4286-92E9-C0665DA5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272-E851-4020-82F4-19D57484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F16-5533-4C3B-B9B0-3389A057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C87-6F96-484F-B325-0241E1D3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A23-B768-4F56-A5E7-13478E69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B0C-F383-44D3-BA8B-F6892ACA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A13-A5BE-465A-929B-15D5B14B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978-D4BC-44D6-9739-ECFEF8B4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733-2083-420E-8026-59FAD95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A21-5A2A-4B39-A157-4D10127D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370-59E1-4047-B1E6-9C38D1E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3FF-E9CA-489E-A22B-6EB265B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DECB9-866D-4ABF-9411-636387E5E5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