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79818"/>
        <c:axId val="23765696"/>
      </c:barChart>
      <c:catAx>
        <c:axId val="29979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65696"/>
        <c:crosses val="autoZero"/>
        <c:auto val="1"/>
        <c:lblAlgn val="ctr"/>
        <c:lblOffset val="100"/>
        <c:noMultiLvlLbl val="0"/>
      </c:catAx>
      <c:valAx>
        <c:axId val="23765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79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19C-51B5-4ED4-92AF-BBBCC9BD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D02-EE62-403C-AB12-F2FA290F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24A-9239-4D6E-AAEE-145AB537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8A5-6774-4A19-924B-03D51550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40C-BD98-455E-A9C2-2080B676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5C7-DB91-47BA-8248-A9D067AF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C5F-1F83-4D5C-B6E9-CDF2580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41E-1578-44D9-8AEA-8A91E6F6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47A-D2C3-4819-BD7F-9B7089E8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066-B17E-47B0-8600-738E2C88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9DB-1D4D-4EAD-A320-2D46544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F7C-3B2D-4E26-ADD8-C67EA516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FA467-C077-4652-B671-8BEB4C6812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