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47441"/>
        <c:axId val="89864618"/>
      </c:barChart>
      <c:catAx>
        <c:axId val="15347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64618"/>
        <c:crosses val="autoZero"/>
        <c:auto val="1"/>
        <c:lblAlgn val="ctr"/>
        <c:lblOffset val="100"/>
        <c:noMultiLvlLbl val="0"/>
      </c:catAx>
      <c:valAx>
        <c:axId val="898646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47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0B6-E141-4E42-A85A-4BC0CCFD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16F1-7222-4567-B6C2-74A484E3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120-BFAE-467B-9CB8-683898EC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C2B-718C-4D70-9BDA-6377FC4F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92F-C92C-480D-8D59-0CD1964D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039-B4B0-4617-ABCA-0CC7F09D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D246-7A97-41E3-9F57-493FDFBE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A2E-3349-42CF-8339-16507BCD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443-D652-4194-AF0B-0FB04AB3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48C-AB1B-46FF-87E1-277AA124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9AB3-7DE0-4262-8F8A-5F44CAFB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A6B-83A9-4CE1-84B2-1B218E91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537C1-0BB1-4123-8561-CEEB6A9E70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