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36414"/>
        <c:axId val="6147303"/>
      </c:barChart>
      <c:catAx>
        <c:axId val="80036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303"/>
        <c:crosses val="autoZero"/>
        <c:auto val="1"/>
        <c:lblAlgn val="ctr"/>
        <c:lblOffset val="100"/>
        <c:noMultiLvlLbl val="0"/>
      </c:catAx>
      <c:valAx>
        <c:axId val="6147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36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218-6356-4EF5-91B7-728D1744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CE5-AF16-4D93-9D93-C5FD002F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A8C-45A2-4500-BB89-00938CBF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340-7B3E-4A98-92C5-7A476096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761-05FD-4823-B52C-959FC68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CC5-6A57-416E-AF75-CD19B6A3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4C5-C304-4D8D-92EC-D52736CD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7AF-6E19-46E6-A689-63BB6F4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231-0E92-4393-B0A4-29DC2BA9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A7D-173E-4A9F-9985-6368F6D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06B-CE89-4656-8ED3-848EB86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0C3-1BBA-4A0F-9BCA-CAEDF08D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A6B5C-0377-4B42-AC9D-EF1FA479FE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