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14808"/>
        <c:axId val="66760900"/>
      </c:barChart>
      <c:catAx>
        <c:axId val="56914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0900"/>
        <c:crosses val="autoZero"/>
        <c:auto val="1"/>
        <c:lblAlgn val="ctr"/>
        <c:lblOffset val="100"/>
        <c:noMultiLvlLbl val="0"/>
      </c:catAx>
      <c:valAx>
        <c:axId val="667609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14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023-485D-4196-BE35-16EFF88B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93B1-94DA-4522-AD21-EC23B34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2C0-6E22-480B-8087-D6ABF359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8C0-3FEC-432C-8569-4FF6A300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5FB-D741-48BA-B8CF-473257D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496-1D2F-4853-948B-C822F3CA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405-AAB7-4293-B879-BDC92B82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F3A-4870-4F28-B1B3-C64EF0C3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A46-A7D3-437B-A453-3F07005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DE2-B1C3-4B6F-99CC-8687C1A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685-8FB6-4230-BA14-541A024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7BAA-B928-4ACD-8ACD-3876704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3BAD9-AA85-4ECB-8472-615AA6957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