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72126"/>
        <c:axId val="71224787"/>
      </c:barChart>
      <c:catAx>
        <c:axId val="66272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4787"/>
        <c:crosses val="autoZero"/>
        <c:auto val="1"/>
        <c:lblAlgn val="ctr"/>
        <c:lblOffset val="100"/>
        <c:noMultiLvlLbl val="0"/>
      </c:catAx>
      <c:valAx>
        <c:axId val="71224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72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276-4D97-4CEF-8252-316D4143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03D-49FF-4789-B1FB-C124ACF2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CAC-216D-4C57-990A-70097F29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2A6-CC3D-4DDA-8337-695A4766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B49-2685-4905-B4BB-66F5DC33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3DA-6BFC-43AB-B176-7B3B3EA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A94-5DF3-44D6-846E-92650E2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E7C-43B0-4EE4-ACE6-1D89BD9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23D-899F-4865-B528-C4526D92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AB2-24CB-4EB9-AA87-E51F0B7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A24-DBD8-4AAA-9316-6D4A95A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1EA-6948-492E-AB5C-2ADE296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69D0D-4052-4462-962D-50EF36889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