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41432"/>
        <c:axId val="5906026"/>
      </c:barChart>
      <c:catAx>
        <c:axId val="236414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6026"/>
        <c:crosses val="autoZero"/>
        <c:auto val="1"/>
        <c:lblAlgn val="ctr"/>
        <c:lblOffset val="100"/>
        <c:noMultiLvlLbl val="0"/>
      </c:catAx>
      <c:valAx>
        <c:axId val="5906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414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7D5-616A-4495-B821-0869A92E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532-BF6B-4682-8153-C785542B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03F-1DDA-4DBF-91E3-B60C6848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F1B-0F1E-4822-A3DB-6E5CEC99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D1A-4B96-4790-9CCB-5986E71C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426-8548-434C-B770-08A79B2E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4B3-3C11-4B91-ABCF-0C2647ED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FB1-61FA-4C7F-B1FE-263D5183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753-4D2D-4706-8E11-42F1E6BE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39C-5243-4BBF-9D55-BDBFE35A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607-E56E-4A5A-AC48-159F16A9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522-2D0E-464E-BF84-1CEF3ED8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F13E4-3552-423A-850C-6254A2F0A0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