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31659"/>
        <c:axId val="88112331"/>
      </c:barChart>
      <c:catAx>
        <c:axId val="59631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12331"/>
        <c:crosses val="autoZero"/>
        <c:auto val="1"/>
        <c:lblAlgn val="ctr"/>
        <c:lblOffset val="100"/>
        <c:noMultiLvlLbl val="0"/>
      </c:catAx>
      <c:valAx>
        <c:axId val="88112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31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E0E-92AF-4771-85D0-307C672C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4CA-84EA-4007-AA78-B3D6087E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F12-011B-4873-923B-F7CA6628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8CD-CDAE-46F3-9F5A-696AA5D3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7B0-4C40-4F47-B8AF-403B72E8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484-2142-451C-AF0F-8B970408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A05-FCE9-4678-8D2A-8DF98050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C50-DD09-496C-845D-807AD282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54D-F6BC-4A32-AE4E-1B60B216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C50-269A-41C5-9418-18357F31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668-10FD-4FA3-8AF4-CB84D28D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B3E-13C0-438B-9104-A1B3F13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D190E-79CC-4C60-80BA-B1700729BB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