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282384"/>
        <c:axId val="88065238"/>
      </c:barChart>
      <c:catAx>
        <c:axId val="362823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65238"/>
        <c:crosses val="autoZero"/>
        <c:auto val="1"/>
        <c:lblAlgn val="ctr"/>
        <c:lblOffset val="100"/>
        <c:noMultiLvlLbl val="0"/>
      </c:catAx>
      <c:valAx>
        <c:axId val="880652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823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115C-3D6E-49CE-9CFB-C1214B9F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A35A-E195-4E72-86D7-7D01F689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ED52-7E3A-4650-BBC1-1C153A6A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2555-1F06-4D5A-A446-9A13F64B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65EF-11BD-48A2-B081-5A4432AA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BA78-7B70-4E48-A6C1-C29FBA90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C8F7-0A3F-4510-B615-9DD7DB0D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B217-262E-44C4-A5B0-6F98E546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BFE6-1A80-406E-9B67-27733674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91C7-05FD-4567-89A4-80C150E2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02E7-7F90-49AE-8AA5-7D99DF5A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F016-3A39-44D3-A7CB-B722E2A4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4F55F-3AD7-4203-80AD-5CAD611274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