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358980"/>
        <c:axId val="63354830"/>
      </c:barChart>
      <c:catAx>
        <c:axId val="833589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354830"/>
        <c:crosses val="autoZero"/>
        <c:auto val="1"/>
        <c:lblAlgn val="ctr"/>
        <c:lblOffset val="100"/>
        <c:noMultiLvlLbl val="0"/>
      </c:catAx>
      <c:valAx>
        <c:axId val="633548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3589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29CB-F67F-41DA-B97D-630B18DC1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8D2C-6565-4E1B-9827-A1541C45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CD50-651A-406A-9C50-920210B45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B681-4C9B-4216-BB64-013F0A540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372B-29E6-4BE9-BC2C-424344A7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A826-1FEE-45A3-8205-C2B816B4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364B-FE97-4D88-9AA6-56B19CAB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9946-BC65-4FAA-8EDF-CE800DEB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A5E3-763F-4EA9-A3F3-0E9CB89B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3317-FE2B-42C4-B3CA-48AA5AE1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6071-3652-416B-A08B-89749D13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53F5-0BC0-4263-9849-4A19438C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99E19-75B1-41CA-882B-B74E4790D3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