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40318"/>
        <c:axId val="92245907"/>
      </c:barChart>
      <c:catAx>
        <c:axId val="41440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5907"/>
        <c:crosses val="autoZero"/>
        <c:auto val="1"/>
        <c:lblAlgn val="ctr"/>
        <c:lblOffset val="100"/>
        <c:noMultiLvlLbl val="0"/>
      </c:catAx>
      <c:valAx>
        <c:axId val="92245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0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7E8-9456-48C9-9249-45995E08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6F6-279D-421C-AFB8-4F41DD4F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D81-0DA0-4141-A163-F318DB88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FAA-72B5-4FC4-8616-63147FAF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225-3C0C-471F-843C-BAB6811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111-5ED4-43BB-9BB9-2ACA4E12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DAA-D6F9-4752-B97F-2D3457CA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771-EFFF-4B6E-BB85-53B68F09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021-B70B-4040-85E8-007D9EA3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AD8-85F9-42FD-ACA3-E19A64F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A34-3E27-41AF-B8CA-F81E4FF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009-3D70-4B27-9C94-45CA24B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0D382-B077-4D51-9389-EC4C7C58D6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