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42993"/>
        <c:axId val="46361259"/>
      </c:barChart>
      <c:catAx>
        <c:axId val="302429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61259"/>
        <c:crosses val="autoZero"/>
        <c:auto val="1"/>
        <c:lblAlgn val="ctr"/>
        <c:lblOffset val="100"/>
        <c:noMultiLvlLbl val="0"/>
      </c:catAx>
      <c:valAx>
        <c:axId val="46361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429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238-D271-4979-AE59-AD62BD4E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0D0-B8D1-4601-8B8E-A5DF56FF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B51-D8B3-4E46-B073-746B96DC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3AE1-C2C6-46A3-9886-FEE32F46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E667-6937-4F69-AC16-4F7CC9F8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88A-FBF5-4418-BF7B-6CD30F0C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39E-188B-4CBF-ACD5-63178216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693-8551-48A8-A2F5-854EEDBD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37F-25F7-4313-807B-806BDA4C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B7A-3B6B-4314-9AB7-1AED435C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B318-B80B-4479-B261-E854A51E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CA0-9226-44DE-8F0E-ACD9936E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BC25F-6CAF-4663-9959-0557CAE5CD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