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22023"/>
        <c:axId val="99826289"/>
      </c:barChart>
      <c:catAx>
        <c:axId val="64522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26289"/>
        <c:crosses val="autoZero"/>
        <c:auto val="1"/>
        <c:lblAlgn val="ctr"/>
        <c:lblOffset val="100"/>
        <c:noMultiLvlLbl val="0"/>
      </c:catAx>
      <c:valAx>
        <c:axId val="99826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22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0C6-C827-4101-B1EF-E4C641E7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75B-7AED-43CE-84AF-D09F359C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80F-A9F2-4274-A060-5F228187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6FE-AD46-437D-A7E5-14380409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EBE-F5BF-49D0-AD24-18DA1852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491-C762-4A2C-9D07-3156C9B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FB6-46AC-4896-B9B6-77E45DE0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B9F-212F-435C-A406-7212D8BA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C45-C58C-495F-B9DE-709944FD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1D6-6D45-4F71-8B43-F8322723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BD9-36E6-4260-BDAE-BA71EBDB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6A4-552B-42D3-A8C1-01D640ED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E43A8-BC02-4820-8BA1-4C7EE0A67B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