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2654"/>
        <c:axId val="54115663"/>
      </c:barChart>
      <c:catAx>
        <c:axId val="2412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15663"/>
        <c:crosses val="autoZero"/>
        <c:auto val="1"/>
        <c:lblAlgn val="ctr"/>
        <c:lblOffset val="100"/>
        <c:noMultiLvlLbl val="0"/>
      </c:catAx>
      <c:valAx>
        <c:axId val="54115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2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717-DBB6-435B-B243-1C5C8258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EDF-9503-4183-93A8-4C3AA87E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4E0-B32C-414A-9F92-039CDD26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037-181F-4B8A-9232-EC68B1E1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F9F-27CA-4E49-94A4-B3CD3C34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483-379D-48EB-A5C9-EC8596D8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B78-5109-4C47-8CA1-A4514E99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48B-5F88-4F40-8B99-D3CD5F0A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0C6-F7F8-4C5A-953A-5C8E446F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DA8-FA50-4042-9BB4-8334747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174-EB9A-4B00-A954-34EF142E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5A9-D234-409F-832D-3034A2DE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79A87-8821-406C-B59B-B8D69C8237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