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87833"/>
        <c:axId val="59508111"/>
      </c:barChart>
      <c:catAx>
        <c:axId val="71987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08111"/>
        <c:crosses val="autoZero"/>
        <c:auto val="1"/>
        <c:lblAlgn val="ctr"/>
        <c:lblOffset val="100"/>
        <c:noMultiLvlLbl val="0"/>
      </c:catAx>
      <c:valAx>
        <c:axId val="59508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87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A51-C0C7-4837-AF39-2D49C450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694-0FB2-4AD7-B9A5-C19D95C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4FB-E3BA-460B-BB4F-07F9FB5F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5A0-736D-45A9-B686-6F938754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D72-4784-45BD-A979-AD5D3E24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FA4-2FC7-4CAA-B98E-1FC7BBC9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87F-D882-456C-988F-47F2CD3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9E9-9DA1-4061-AFFF-8D49DA4D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03C-D709-4394-B8ED-D7C73C1E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E1D-C4F2-4CD9-B0E6-EAD74C9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6C9-01DD-423C-87F7-99F4F1A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5C4-1215-41C9-81A8-6FE24BE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FA70E-AA72-487D-8049-A94DF09C09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