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461778"/>
        <c:axId val="34844031"/>
      </c:barChart>
      <c:catAx>
        <c:axId val="164617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44031"/>
        <c:crosses val="autoZero"/>
        <c:auto val="1"/>
        <c:lblAlgn val="ctr"/>
        <c:lblOffset val="100"/>
        <c:noMultiLvlLbl val="0"/>
      </c:catAx>
      <c:valAx>
        <c:axId val="348440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617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2E21-5541-468C-995F-FB0AA091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9299-D07B-4132-BB86-36D1ED54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C747-EA54-4198-A837-49F8C462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C1BB-BB38-45D3-A61B-684C12E6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9297-0FA5-45C8-AA59-B8E097E7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AA7C-7620-471A-AACC-B7ECEB92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459-CDC5-4E0D-83C3-BB2F2FDE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351-0862-41C0-8239-31DFB8B1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5FEB-6B11-4B9E-8A31-E80DF551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E3C7-9849-47F0-8914-83F4944D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40FC-521F-4E01-B173-BCD88D0E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A59E-283F-4575-934E-6AB09209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AC490-052A-4D56-972A-37FB42AA90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