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93966"/>
        <c:axId val="79356749"/>
      </c:barChart>
      <c:catAx>
        <c:axId val="42393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56749"/>
        <c:crosses val="autoZero"/>
        <c:auto val="1"/>
        <c:lblAlgn val="ctr"/>
        <c:lblOffset val="100"/>
        <c:noMultiLvlLbl val="0"/>
      </c:catAx>
      <c:valAx>
        <c:axId val="79356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93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3E9-9AC7-49B1-9997-6470369A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604-1F30-44C2-83BA-5EF1D059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D8A-B74F-486D-BEF9-265C024B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B2A-5699-4E84-A45A-C102A342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786-7566-4F29-B571-344915E1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391-F437-41DF-BD4E-44DB993E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EF9-75AD-47D8-9D06-7DBAB099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68F-91B7-426D-8A11-80921002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3C9B-7930-499C-A389-349C07F5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81D-4B81-43D7-9731-829C9EDC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15C-5E39-4A47-93A0-484871AB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958-9059-45AD-89C5-D7AF0B7F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A0B24-8772-4959-BADE-FD092A2086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