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6E17D91-D083-498C-A64C-363B27C7680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41B20BD2-A7B7-4F05-8AC1-9963EFE9FFD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91411BC0-C3E9-4939-8EC0-2BD9B666F9E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1D2862C5-A22A-41E6-B1D1-848AF0EE1DE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386F46F8-560E-4C19-B75A-94C9DAB646E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09D934-5831-4E7C-9C9F-C1B4BB5EF7A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4300BC21-5C22-4F2E-B92B-3543CEF0786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1CA9674D-23EE-4D88-A7BB-49B37DF50B0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A3C2FEAB-BF05-45E2-9B14-FC9BF8D7D23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4F99EDA-DEB6-4C24-9986-3EFA007A945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1E63A0B-2A8E-4DD1-AEEB-4B66C2A5244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DA32CAA-6A52-41C5-AD9D-0751795668A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D952C5-5CB2-449A-BA04-AEE84CD97B6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2F4E6E7-C6D2-460A-B391-56C0C58B0BA5}"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32C200E-D217-4740-8826-2D4AB278DC1F}"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15845B0-7C2A-4783-850F-EC92A5A49A08}"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2807A66-3B58-4E8C-8C25-94629F264208}"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1CF965-3871-4B7E-90B5-87F4B0403D19}"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3A064D-EA9C-428F-A4C5-5828AA09D8F0}"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49D7CDD-9911-4F04-95E1-27816844034F}"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7FE6CF-08C0-458A-8ED1-E31BA5D470C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EFDD6C-903A-4BA8-A38A-1C172FDF668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0CD23AF-0186-4EAA-8AB5-4B7AF7240BF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1FFBB4-4396-4BA1-8EEE-87D998FA104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05D1C8F-56DB-4FD5-8737-03F0B7C1300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BEF3086-3161-485D-AF31-128BEEF7B3B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578FB3FA-57DD-4FDA-9E3F-AB809E00545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C46FE7-A24F-41C8-AF61-FF6F3F33FDF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177FF05-C173-41FB-AB49-D7A1F7C1F5E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9AE7C87-B600-4E7A-8CEA-D1F46F0644F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EAA14C-8775-40B7-953D-55F0F4AE4AB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802D92-875B-4B66-B6A6-16AF8F85293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318AE4-DDAB-467A-899A-2A761089822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9BCE92-11BF-4A28-A368-C3FFA715D8C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559F637-382F-4F24-9A14-93F41F201B4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F376C29-822A-4539-BCA0-BF4C27B2DCA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CD39AB3-7161-4B10-A602-B7EF474325E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172A19-891B-4C6F-8DB3-BF95C9C884A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5B2F215-C7FD-4C7A-963F-5A146E775B6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E26229-3813-4E96-BC73-B1B90AB2910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497E53-DF52-4610-9A32-A05704C6BE4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D1F25E9-17A4-4F4C-AAF9-8A1196CA9F9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1DBC49-BA57-46C7-A1CC-9E63B762CB0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E47317D-8665-451A-840B-2D7A6E6B4DCC}"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E2AF70-E668-4D4C-A81E-A6A60B7E9DB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70E49DE-1B9A-4FB7-B726-CFCB8CBC9E64}"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C6282B-E6E9-4D68-AB99-0FB8F174D7B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2A957BF-8249-41A6-A0D1-E0500D6AE8B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E7C652-4185-483A-8B2D-5EA46630D79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B4C0CB-01E1-450F-B1E9-FE65906A8F48}"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5F191354-3E53-452D-B8EE-656CFE384037}"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812A43-068D-4E04-AA33-D06CEE244839}"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E9917A-0E6E-49B0-8188-7E8BA93C882F}"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F559CF-59B4-4169-A6E6-B7F6F8A7BDD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3EEF3C-1CD0-46F4-BDA8-548E5144C2EE}"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B0C605D-EC52-4273-B6B6-DE6344AEBB8B}"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9A69BF-7832-4A0D-8154-F290153A74B9}"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3E287F-3AA5-48EF-8B7A-E8E4E18B2ACE}"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62B98A-D025-4CA4-A605-25A47C2014EA}"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BAE248-EEA6-44EA-9D29-A9841CD4D8D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2462BED4-FBC9-4B02-BC04-6014216EFC3D}"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1DCFC3C-6347-4897-B55D-E7E0C2484967}"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C740E04-0F25-46E3-AF54-678CCBE859BF}"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2F453B-9BA5-410C-B255-623A158BD86B}"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E5301B-C8C9-457B-9258-AC242FCBABC1}"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8F3C2D8-12F1-4695-BDB0-B87BF79706C5}"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16BC28-FF51-4E49-B6A9-16E37EE8600F}"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801B78-3087-444A-99F8-541607599D49}"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79C714-063C-47B1-8143-1BB6250FB71C}"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28DB7B-039B-485A-816A-8354FE3D87C0}"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6AF7D4-D898-4F58-A9E4-9019B445F183}"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625763B7-6B4B-4AAC-837D-C8528E77ABAE}"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4D9EA43-9543-48AA-920A-F1386FC4131B}"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72EC01-E34F-4787-B5B6-7B6DF2CEFF85}"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4CE5D04-A6AB-4DE8-81C7-B3FA77EC1384}"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7E07D2-BBAD-46F2-8D9A-F9ADD612D29E}"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A0E518-EED2-4368-9391-2F724A84CDA5}"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28447E-F3B8-4D5C-9F61-1ADB15C0DEFD}"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B723FE-E45B-4992-B07D-5DB1D6D4E2CC}"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AF6D845-FB96-4075-814B-69CB6FA6F951}"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1FF776A-9F95-4AF9-9C4F-3AA93287D45D}"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D4D4483-58A6-4B4A-BA58-72DE09DE30BB}"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736860-E7B5-44E7-AB18-98B781C7822E}"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8BE827A-7468-4B5A-9884-F57D8711ED14}"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2B5331-39AE-4D7A-8768-C2CD4A6C3B2B}"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FB86B73-E1C1-4BDA-BA44-EFDDFE5BE501}"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E349D2D-3768-4A8C-B9BC-972F37F87CEA}"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8F40DD4-7D00-4D32-AEDF-02841037FFC4}"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15F371E-5191-405F-98AD-CAF5A488FA2E}"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827FBD-29EE-4F1E-A596-D807DC0820AA}"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754C864-119C-4E98-B894-CB550DECA0ED}"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A919BB-E9DB-46DC-9320-41C683AEDFC4}"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4126F68-1483-40F5-8033-535CEACFCBE9}"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D3A1CC-847D-458F-8816-2F7888A3426E}"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ECE26C-03CF-471B-AF1E-249346B03A1C}"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D3578C-5AB2-4EFB-B7BA-5E41357EF5A7}"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585CB0-C069-4D0E-980A-BFC60BFA93C3}"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7A270B3-79F2-4DA1-A537-7959D2A8F7AA}"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625157-7C3B-415F-BC44-E343C4AF6443}"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B1906C-2EEA-42AC-B813-111E11073BFF}"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915B0AC-0082-476E-8572-48006E92E36F}"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94F072-6C3B-4E99-874A-F16970585D4D}"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E6AC320-93FE-4AE9-82B8-B53DE22733C8}"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19E012-895E-40C1-9BF6-57D0D3C956CB}"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6F06C10-EA0E-4136-9A43-329B762EB8A6}"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CF5AAB-3AB1-48F8-90F7-03205C970818}"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AFA63E-EAF6-4EE1-9AF0-EC6F7428A027}"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08A4D13-C7D6-4CFA-AD34-6312A22F889F}"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3C48FB-ABED-4A41-A93F-74764A9B3C90}"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1EE8D4-67DD-42C2-9600-9EB21C358844}"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D1C709-1134-4E9E-B525-D4E8E494FA64}"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2D97FA-F1DE-43F3-AFDE-92CCC153A58A}"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FC37993-3F62-44CA-BDB9-D5D86E4EE6E4}"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42567C9-1F22-4CEB-B3D7-1CF4CB72087F}"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89C120D-2688-4008-9CBC-E6E58B5083C7}"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22066D-AA2D-4735-8935-327F7F5F62E2}"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F9452EC-3009-4C93-A323-4E4019FC2A7C}"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