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66047"/>
        <c:axId val="5834542"/>
      </c:barChart>
      <c:catAx>
        <c:axId val="356660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4542"/>
        <c:crosses val="autoZero"/>
        <c:auto val="1"/>
        <c:lblAlgn val="ctr"/>
        <c:lblOffset val="100"/>
        <c:noMultiLvlLbl val="0"/>
      </c:catAx>
      <c:valAx>
        <c:axId val="5834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660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974-FFF8-4193-9789-3CBEA316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2F41-D82E-4A4C-97E0-28B94A44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8072-7ACA-46DE-B3A0-20762565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407-455E-4B10-9628-7CDC886D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B4E-DB66-45A2-AAD9-6AB714E1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9FF-81AE-4732-9E4C-BA758EA6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7D6-6C66-4CD5-8E54-E7C3C3CB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F62-7929-4137-A9B3-2B950C72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336-DC68-47F6-A64F-DBE46D8B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4D0-826A-4EF0-B414-7E6254C5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3EB9-3387-4EDE-BB3C-DC9084F6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739-9F40-417E-8A30-5BAF1FD8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B87FE-197C-4EE2-B550-FBE849A97D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